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BB36-BB31-4026-9192-BE03876B9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E37-0152-4756-89FD-0A86D3A5E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1C57D4-A75A-4D52-930E-3C179766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FE1E1A-FE4D-40D9-AA4E-B9CFC0C42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50D785-38D5-414E-A8FC-D95E43C7F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C22FD-2B0C-492E-A9A3-FE31E6C5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48D80A-B0E2-43A0-BC75-A3B25601D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FAE90-8FE2-4B64-AD6D-05755B67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D34DF6-DFD1-47BE-B3B8-7519113D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77E56-6275-48F7-AA4E-9E0BDE55B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6A8273-C15A-4333-A47F-37A33898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955ED-6E90-4C2D-8077-9C52EAF4E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FDB7-2718-4913-842A-6BEF32F7C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6D0477-0733-4EEC-B88D-750961626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4E03E-B6F4-46A7-B991-B5AEA248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EF3DE9-66F3-4468-9CD0-29DC9682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8995E-C1E7-4C72-907E-10A9A8E9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BA5A40-8356-4173-BB04-B7467C22C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31E0F-F049-4BD2-96A4-FA52529F0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95AD73-C218-4990-961C-EBD818C70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F831CF-48E6-4DC0-AC4E-2CF193328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BF40A0-A1B7-489D-B03A-AFEA84A1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A0BB4-09D1-46B7-8078-EBA9D7B8E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A7EB-38D2-4E90-B401-4B7247D1C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C19D25-94C3-4AAB-8349-C9E0D5B3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EDBE3A-69E1-4FBE-9661-E898D7727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FF815-FD45-4DE6-8FE4-44C90603D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90A2A9-808E-4022-9D73-27251BDA4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2B5D5-FA85-4819-884B-5F0EB4D52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39562-6AA6-426F-9410-5CA3E2E09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346AAE-6073-4C33-B5E3-F9FDB5A5C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4C7BF6-E589-4920-A51D-383FFDC80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5F805-E4CB-475F-9B71-A6E66BA64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9ADEAD-9E69-44B4-83FB-9CC401E56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DEFBD-1B32-4E0F-B8B6-86FD36622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39C35-09DF-4141-9509-AEE77DAFD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70257E-DA5B-4C74-A292-325633F5F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15F06-F8FE-45E6-9949-84849FC2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76BF00-CB08-495F-ABE8-04F9CEA30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7BBA3B-FA02-4BA4-94AE-E26875832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ADE1BE-B247-40FD-8DB4-E6DFCBFC8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49B54C-E589-414C-B63E-84E2689A0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0BD2CE-9B4B-45ED-8398-314984E83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C5BEF2-D7E4-4C8C-934A-4B2187DF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7801D8-B83C-4BC2-B699-30E86D29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0BD7A-AFD1-4AD4-8C53-33BEB62D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9E1E68-BF68-4464-B1EC-820C96C9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36370A-B050-4C3F-A186-717FD02CE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AF6CF5-0B72-4A56-96DA-651DD479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FF8BE-8B51-4CFD-B409-C770EFF9D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8288CC-1238-4B95-A1AB-D6428D525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549FB-CD09-4CDE-A5B4-006079552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1FD895-806E-4CAE-8F3C-27A0B3901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AC2657-0380-4431-8D9C-0863F945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C11FFE-370E-43ED-BBF9-76B04772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9EA5F-F34D-4431-8C77-1480E3DD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E022D-91A7-4497-9836-B612D41AB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7C3C1C-C498-4ADB-A97B-FF9E40309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A8E130-1FF8-41FA-A68A-19B78F067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C30B11-0AD4-4E65-B62E-BF7B1B4A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0DB14D-E063-45CC-845D-A96F34CC5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073C92-0B87-4092-992C-3A44CFA37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5D1F70-C83D-4681-BF15-96216ACB5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C6678E-DC66-454E-B80B-307591A8B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B66539-F7E4-4F45-B91F-26B9F505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0C93653-957C-4E30-8C09-ACDB1694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91584F-6678-4EBF-B040-995B2713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418D-8849-41F7-BE01-D0DA3225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97F5B-7509-4EBA-93DD-4BE56043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D9D0E7-6D6F-4C33-BB57-1EB497750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90F850-B989-4C1B-9FEA-EF993E25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673408-CC8B-468E-8C59-577D806C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FD4CA5-0524-4BA8-BC34-59992158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473E89-FCC5-463D-8CBB-767C71B1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C4F93D-65B8-4D60-9A0B-EA509D64C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0E9740-F3BF-4660-B262-DD7EFBB14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2E681C-2C4A-474C-A04A-5E69A371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577586-F60A-484A-9B9D-8A5C8054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C6C1-5DC1-44B5-B2F6-487123D99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774E52-A830-43A9-9991-F2584514E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4679743-BEF4-49BA-B2B9-FD327A839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C06E6D-F718-47D9-95FF-213B6E6E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6372A-977E-4FB0-92C8-6A475CF24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84DA93-B502-4863-8B7C-C1A77DA2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8B48C0-1819-4619-B43E-A02E6719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28217E-EF5F-4BB4-AD3B-D732D2C87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C38C7B-7BF3-42E8-A455-4DA10FC6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3E5CE3-4FA1-430E-9DF0-2F132463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F102B7-BB34-4E7D-B329-4A98091B8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EBE7D-A71C-49D9-99B4-424D1C092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1BF27-9BA1-4F65-819C-EF9B50655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3CDCA-B663-48AC-96C8-49B8BA493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98F926-1D70-49F5-83D1-304B17811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AAE5EF-9B5D-4F93-8C67-DA0F77084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AB81A6-C6D8-4EE7-8BE2-688162FD8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3B10EA-1CF2-435B-8C57-28276148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B8D480-6973-4024-8204-E2C6D625B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4C14F6-79AE-4811-9073-240136D9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A4A696-C8A5-4AD7-BFC5-ADB9A3A61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DA5D7-BE85-4CC6-90BA-C7EF31C19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6A1B5-7FE4-41D0-8335-2A46072E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A9D280-08D7-4D58-B660-9B2CB01C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39ADCA-4709-459F-B56C-5D1C30727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47E26B-3892-4129-AD87-B450DF36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D001AA-024C-4DA7-B947-00BBC9C2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D2DC0D-E274-4AE5-96B7-210E84A42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AD576A-427E-45F5-9AF7-21A562876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D264F1-D92C-40A5-8B09-16D91FABF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C3CF1-E216-4C8F-8877-B448609E9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CC8802-EF7C-40E8-B96B-303C75C5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379CA3-6473-40B8-9925-B113EB009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B5E2-0B94-4908-85D4-3664C828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9BC98-693F-4D57-86DA-9BDC9C7E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D36112-56B8-4026-BEB3-C6119A418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EC6AE5-547C-4772-AEB0-5292BEE9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C27CE7-E39C-4BEE-8BAB-BED3FE5FB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580C9D-70E6-42C2-9E94-76AEFD8F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A30217-13E3-4DD1-BBB9-01059B804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85C2D1-1F3A-4632-8814-BC181447F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45F55B-2D07-4F93-888C-79194C72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BC9117-9143-4A8B-9DED-8A4E5738F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DC8683-F3F6-4179-9C5B-DEAEDD3F6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76223-A972-422D-BD62-43DAE7251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5C6F0-F4D0-4F46-B8CD-B6D208AB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CD2C9A-0A8E-457A-BB5F-DC9AE40C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A4E718-F03A-42E8-BF6B-21B8265B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00B15E-8D39-4C64-A590-2A1E0FE3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41D52B-0893-4D91-AEAF-4D3DB4DE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E7DD83-8191-428A-89A7-66AFCF41A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4EE46B-38B1-4C57-88B5-412878E3B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4BB622-5455-4696-AD93-E91E2D980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09ECBF-B265-4591-AAA3-E22ED8D2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DFD732-550A-4179-89CD-8C1458D31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F1CF15-5470-478D-BE01-DDE0AF10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6B52-0040-42A1-ACB8-F12A932C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C3C902-C93B-45AB-AD14-F13E4CDC3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E2D4CD-1730-4FBC-9FE3-F7616ADA7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954755-C6A4-4471-984B-102FC4B7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5E714C-071E-4B53-944F-704EE5C50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DCA96D-7B6A-46E9-B9AA-DE16C2A2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8D246D-1C84-4513-A07C-234690C67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2C0FB6-12E5-4005-9A91-2A8AF776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B7FAAD-A166-4CC9-B667-E8CEC003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05F4300-C7DF-4E8A-A2FD-D259644B1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BB1527-4F97-4427-BF87-6DCBD448A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FA2C2-6E81-43A6-B53E-E7EFA9AB5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F5F314-CA19-4C14-9BBB-4C8C1944C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83BECB-BD20-4D34-A21E-24B3F483B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28256E-5650-42A4-99CD-0736978B2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A1B9AE-5F03-4142-93B6-C700560F1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B66CCD-5135-4F09-84AF-E32E02EC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51834D-3592-4892-97F5-192EAC487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D26FDB-9CC5-4E62-8EC5-C4C59CB16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6E5596-8D27-43B3-8D6C-A2EBE666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7D9C199-3134-4D79-8584-F2712D60F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478274-F954-4457-933E-9F4B7B1F4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3A0CD-C20A-4AE8-85A8-BB4CEC3B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B492F7-A777-47BD-A1E7-9EBD38146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6B6253-901B-4752-9829-BA1F56B3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F5F7D2-8978-4FEC-A240-C98AC857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B66E0C-2DEE-4B29-81D8-1CAE4CE46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A85DE-AFBF-4CC1-8580-E34F5E0EC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1003F6-3E26-4958-A9D5-580BC0CC7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E45E3C-2156-4DDB-A24A-232B038A1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971C7A-85E3-4519-8688-C869FE4B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6C5AE2-4AC3-4BAC-8A52-71E5761C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2D87EF-753B-44C2-8E8A-05D0EE494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1BA6C-A3D4-492F-BDFD-2CB1C568CA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E3FE52-002E-41DD-AAD9-283F5F53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27799F-F139-45BC-B648-3D329F89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16D28E8-16EB-47D4-93D8-DFE4DDE27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C320B-22DB-4269-91A1-3C1A1799E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75D2-511C-437E-A86B-99CF91BDA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1994F0-1AB9-4665-8571-F87BD6676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341057-A4A6-46AC-99BB-8586F20A3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C6B7-6B47-4A3B-9FF9-6243AC06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CC275-66C3-43C3-AA45-70DE678C4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C1332-73F8-47B2-9C4E-2B28E295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33958-6219-42D9-AF73-C599F7F17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BD78-DE92-4C50-9095-D744AB16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9C279-6FCB-48A6-919A-07E24D9BA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08FE63-4286-4173-9695-B0A2D10E9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4FC5FC-E131-4957-9DE2-10A2AC6D0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F57A30-02EE-471E-B9C9-16D2294DA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97795A-1646-46CB-B484-7FA5D2B54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5DC46-1B14-41D3-9F78-2CF722F7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809B-104D-4BCA-93DD-BB8519A70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0D6FC-759D-452E-B7B0-F560A731A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5B355-2B3C-4C53-BB4E-7DF58707D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BB77D-E185-44A8-953E-B2354912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E7218-7AC6-4213-9CD1-255765F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1AF252-F739-4775-8ECC-03481475D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7659E-4346-4CDB-95AF-690074147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C64A1E-8EB4-487B-B1FF-1DCFD2845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D08A26-8434-47F3-8AA4-CBED2E14E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432FB-D725-4CF1-B3EE-6E53512E4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85798D-CDE3-44E3-909B-E97AAF67A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2EA0-D7C1-4BD5-B6DB-F77A2F428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E3FA7E-5B3A-4C71-8BBF-2448181EF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59C069-60CE-4A9C-BA3A-F9386DD8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09E68-BC8C-4D32-9C89-39B5469A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30A94E-2E09-4F84-8FAE-FF60C97FA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3D24F9-61AA-4800-96BF-EC05EAF13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6A71B-EE5E-4EAE-AB30-7ABD016C8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4CB3BA-4905-4060-9B26-99207EB94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47F883-124B-4C2F-89AA-FB8F6880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7CD026-B615-4078-A47E-578CC1DC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07BB82-0CB3-4ABA-93AA-694B263EA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A3A4-8827-4038-A102-7E4E7679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602864-7E58-47A8-BA2D-3187D8789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318E31-14CB-4CAD-A7C6-596C9485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E14ACF-3242-453B-9DB2-40F54B7F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F4B5F3-5904-4386-ADB3-99817766B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9D55DE-157F-4B47-843F-3CA053BCB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42D95D-84C0-439E-9DF8-7B7102F0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038DF-5269-4FEF-9432-E2CDECAB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2D64DE-3163-4406-8EBC-8B1999AB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A5666-9913-4F13-943E-6C61F147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4DF182-BB24-4007-8F5C-F9ADDEF8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2606-C833-4E88-94F1-D257CFACC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222EE-DCD9-4AD8-A5E9-1A84672C9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7CF62A-2C31-4663-90F6-9007C455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DE098A-2132-4BE5-813C-998563E36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00BFF3-6A8C-4DE6-B750-2102FE4D4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CA521-1B5D-47AD-A6D5-3072EF2E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3959B-285E-4563-A48E-3DB1CD1C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9D746-8537-4594-AFB8-9EB24CF2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7E33F-0584-427F-AF8F-A6201605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E2371A-A0B4-479C-A1A6-9A341B1A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8795C-332D-467A-90B4-96DE4B141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FC8-C183-4486-A248-3EA5632BA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04A84-4E10-400B-A240-D1A1FF8F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802003-7207-47B8-B24F-06CABE97C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E83A6-CE80-45DF-8E64-9BD3D7220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A772B-712D-4B32-AC8C-0095CA9B9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7D912A-08E8-4B9D-8C69-3B196CA22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83B147-46A7-4FFC-A211-95CA224D6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09C6E9-4A95-4BF4-89BA-F8D732744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CB7FA-16A5-45F3-BA9B-5A2388CF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7C453C-8FAE-40D8-A79D-AA805C748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78352-CC82-4116-8F02-FCE4BAEF4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1F1A-B8D6-43B3-8803-93D052CA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B9CEB7-D016-45B4-BEE8-72585809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35483C-1359-471A-ABA7-DB6764E7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3C344-4704-40FA-A550-E1909CBA7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6077A-9A0D-4843-98DB-CB43F18A7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804F9D-0E67-475A-9968-343F79F73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A7D8B-FE1C-418B-8030-A8CEAA01E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B46B5-E918-487A-A6FE-F9450F070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D919B8-FB48-4CEC-A08A-F92C3A6DA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AE7D1-3BBB-4F17-A0C4-B3C7C23DA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8E77A2-70D4-4BD5-84FA-FBBA86EC9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88C88-BCA7-4A4A-926E-076B87B450C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81CC-754F-4C7C-8D5E-3F0B0E00F0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B507-4757-4E7D-8494-6830913389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F9BF2-7257-4E6F-BE9D-66760C3C4C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47580-C856-483D-8228-754E69BA95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CAE39-A0B7-45ED-A8A8-4304B6F116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1FE1A-C9C1-45C3-BE00-F709503F26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B5E77-0FF6-4C91-A2EF-1728D701B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22661-B3ED-4E78-BD1A-1C569BEA96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1185-2655-41AC-86EE-69CEC8247B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4031-4D30-437C-BF28-C0566801CA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CCD16-39FD-4B2C-9828-F37801DBFC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BFAE-9BD5-4A45-B8A0-81C5707233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8CBF9-5054-497A-BC77-A8E0F50B10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8D25E-FEC6-4DFC-B2AF-61D85C9328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BFBDF-1959-4887-8BEA-30C42EE33E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4856A-DC46-49CD-9DDA-27E7D5876E2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CE45-4940-42D4-B39D-BBD4868CB2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F8171-850E-454A-9AC0-55E6856AF1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FCA5-343C-4486-B1A2-80F6C73256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0C980-5351-49D3-99BD-C105D4C573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1F7F3-9002-4654-8734-2A84D76CB5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EC8F-00BE-4FE4-BCB7-A21B215A647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D59A-E966-49DE-B238-3E5F8973A5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36A5-C34F-4690-83FA-1976BB4603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5D23C-7DA2-4DEE-B330-C0738301F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3E84-1245-4954-AADF-7BEDB353F3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5056D-9121-4668-9C14-AD92897786B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8D42E-1883-469E-BEEC-1065694DCB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56E8-4678-4EC0-B69C-0418DC940DA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6ABE-6F3F-40B4-B4ED-2A31D5D673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7A5D5-39F5-4E03-A7AD-A7018243B0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3C619-12B0-4AB6-8FE5-8D1BEC4EF1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E60F9-450B-46B6-BBFF-2DDAB078F2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E45D-8274-4FFA-98CE-4397522B8A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56DE-FC76-4B6E-A3DE-4301ACF756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4A18A-5F25-411F-9CB9-B1A0F260C96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2D06-2BD3-43C7-8D52-DCEC8BA863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12DB-E120-466A-82BC-64617239DA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31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F8831-CBD5-4376-A6F4-7FFD29068D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8496000" cy="79056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2728800" y="3343320"/>
            <a:ext cx="368640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9" name="图片 69633" descr=""/>
          <p:cNvPicPr/>
          <p:nvPr/>
        </p:nvPicPr>
        <p:blipFill>
          <a:blip r:embed="rId1"/>
          <a:stretch/>
        </p:blipFill>
        <p:spPr>
          <a:xfrm>
            <a:off x="285840" y="800280"/>
            <a:ext cx="8572320" cy="55814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2"/>
          <a:stretch/>
        </p:blipFill>
        <p:spPr>
          <a:xfrm>
            <a:off x="755640" y="3948120"/>
            <a:ext cx="4392720" cy="4334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3"/>
          <a:stretch/>
        </p:blipFill>
        <p:spPr>
          <a:xfrm>
            <a:off x="826920" y="4897440"/>
            <a:ext cx="4392720" cy="43344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4"/>
          <a:stretch/>
        </p:blipFill>
        <p:spPr>
          <a:xfrm>
            <a:off x="900000" y="5907240"/>
            <a:ext cx="698508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60428" descr=""/>
          <p:cNvPicPr/>
          <p:nvPr/>
        </p:nvPicPr>
        <p:blipFill>
          <a:blip r:embed="rId1"/>
          <a:stretch/>
        </p:blipFill>
        <p:spPr>
          <a:xfrm>
            <a:off x="257040" y="976320"/>
            <a:ext cx="8629920" cy="4905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908000" y="383220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3132000" y="384660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2484360" y="4869000"/>
            <a:ext cx="1150920" cy="108108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443640" y="384660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516720" y="42926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5508720" y="471024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6602400" y="468144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6516720" y="5127480"/>
            <a:ext cx="4316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676440" y="1409760"/>
            <a:ext cx="7791120" cy="4038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1476360" y="149868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2050920" y="2492280"/>
            <a:ext cx="1584360" cy="8654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4703760" y="149868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278320" y="2492280"/>
            <a:ext cx="1584360" cy="11527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4427640" y="440856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7451640" y="4408560"/>
            <a:ext cx="503280" cy="4334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5651640" y="4811760"/>
            <a:ext cx="5029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690480" y="1590840"/>
            <a:ext cx="7763040" cy="367632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2627280" y="275112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6443640" y="272268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2627280" y="371628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6443640" y="3687840"/>
            <a:ext cx="504720" cy="43344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6"/>
          <a:stretch/>
        </p:blipFill>
        <p:spPr>
          <a:xfrm>
            <a:off x="2627280" y="4667400"/>
            <a:ext cx="504720" cy="43308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7"/>
          <a:stretch/>
        </p:blipFill>
        <p:spPr>
          <a:xfrm>
            <a:off x="6443640" y="4638600"/>
            <a:ext cx="504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7352" descr=""/>
          <p:cNvPicPr/>
          <p:nvPr/>
        </p:nvPicPr>
        <p:blipFill>
          <a:blip r:embed="rId1"/>
          <a:stretch/>
        </p:blipFill>
        <p:spPr>
          <a:xfrm>
            <a:off x="485640" y="1419120"/>
            <a:ext cx="8172720" cy="40197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3635280" y="485460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7740720" y="4927680"/>
            <a:ext cx="43164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662040" y="909720"/>
            <a:ext cx="7819920" cy="50385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3419640" y="321300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7451640" y="321300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2382840" y="4724280"/>
            <a:ext cx="431640" cy="4334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2411280" y="5157720"/>
            <a:ext cx="432000" cy="4334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5076720" y="5172120"/>
            <a:ext cx="43200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561960" y="1252440"/>
            <a:ext cx="8020080" cy="435312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1476360" y="3429000"/>
            <a:ext cx="2951280" cy="22320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2873520" y="2478240"/>
            <a:ext cx="1985760" cy="43308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5262480" y="3386160"/>
            <a:ext cx="2951280" cy="22320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659640" y="2435400"/>
            <a:ext cx="198576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1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861840" y="1866960"/>
            <a:ext cx="7420320" cy="31240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971640" y="2867040"/>
            <a:ext cx="2950920" cy="2232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2368440" y="1916280"/>
            <a:ext cx="1986120" cy="43308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4"/>
          <a:stretch/>
        </p:blipFill>
        <p:spPr>
          <a:xfrm>
            <a:off x="4788000" y="2852640"/>
            <a:ext cx="2950920" cy="2232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5"/>
          <a:stretch/>
        </p:blipFill>
        <p:spPr>
          <a:xfrm>
            <a:off x="6184800" y="1901880"/>
            <a:ext cx="19861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2231" descr=""/>
          <p:cNvPicPr/>
          <p:nvPr/>
        </p:nvPicPr>
        <p:blipFill>
          <a:blip r:embed="rId1"/>
          <a:stretch/>
        </p:blipFill>
        <p:spPr>
          <a:xfrm>
            <a:off x="276120" y="1533600"/>
            <a:ext cx="8591760" cy="379080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971640" y="3760920"/>
            <a:ext cx="5400720" cy="4330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1042920" y="4724280"/>
            <a:ext cx="54007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50:3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